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.wmf" ContentType="image/x-wmf"/>
  <Override PartName="/ppt/media/image2.wmf" ContentType="image/x-wmf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F7609-4E74-4009-96DA-5D6A08D7A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BA3DD-20FB-439D-B680-D9AB0C2CC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4B170-83A2-483C-8FE8-CC843E262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61BA1-F8FF-40EF-B021-D742807F8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43761-2096-4E6B-8F0C-5C00DFD02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29314-0148-4B42-B967-9B8251453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BFA88-3050-4336-A664-E71E2DC1D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D3128-A33D-4D3A-BED0-D95609DC6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5EFAA-F363-4128-B4D4-DF0ECADED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08DCB-D2B2-4032-AC91-A1DBB44B3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8AF9A-9030-4769-985C-E2DF0994B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D1EE5-DF9E-44CD-BCA8-F2B15F4C9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BA4B6-DED7-455E-82A8-D6B212971E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304920" y="114480"/>
          <a:ext cx="8686800" cy="65149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14480"/>
                    <a:ext cx="8686800" cy="651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228600" y="95400"/>
          <a:ext cx="8610480" cy="645768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95400"/>
                    <a:ext cx="8610480" cy="645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066680" y="228600"/>
            <a:ext cx="7086600" cy="46148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438280" y="5105520"/>
            <a:ext cx="28958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read of Egyptian Reli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Roughly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76320" y="38160"/>
          <a:ext cx="8991360" cy="67435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38160"/>
                    <a:ext cx="8991360" cy="674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7T01:25:11Z</dcterms:created>
  <dc:creator>RDPL CLP</dc:creator>
  <dc:description/>
  <dc:language>en-US</dc:language>
  <cp:lastModifiedBy>ripkensa</cp:lastModifiedBy>
  <dcterms:modified xsi:type="dcterms:W3CDTF">2009-10-18T18:08:21Z</dcterms:modified>
  <cp:revision>1</cp:revision>
  <dc:subject/>
  <dc:title>PowerPoint Presentation</dc:title>
</cp:coreProperties>
</file>